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C05-082D-47A6-98B8-684E3A59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B64-46F2-4D94-808E-8C4F872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492-EECE-4D89-8CC6-26C19507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CD4-CADC-49D7-929A-9C556827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A73-27F1-411A-BE5A-8384B6E0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3EB-B754-405D-9191-976B106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AD2-1115-4BE9-8571-1884CE39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2D2-727E-4BCA-8FB9-8731DB7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9E0-759C-411B-9D41-C0CBC238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B7D-C2EC-4B87-A7FC-8DA01AC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4DA-A5F8-442F-BCD5-27DF2CF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678-5F32-4093-95E1-DE4F1394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061D4-F2B5-4996-8C96-4F91B3A6D3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8F4E2-69D5-4226-9F61-E1380FC02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C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z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G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T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C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C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30:50Z</dcterms:created>
  <dc:creator>Caroline Roth</dc:creator>
  <dc:description/>
  <dc:language>en-US</dc:language>
  <cp:lastModifiedBy>Caroline Roth</cp:lastModifiedBy>
  <cp:lastPrinted>2010-10-18T11:42:38Z</cp:lastPrinted>
  <dcterms:modified xsi:type="dcterms:W3CDTF">2011-05-24T01:19:57Z</dcterms:modified>
  <cp:revision>3</cp:revision>
  <dc:subject/>
  <dc:title>Slide 1</dc:title>
</cp:coreProperties>
</file>